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17F5-FDCA-4F37-830F-51DA96B8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454-1D5B-4BDB-85E7-7F680545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F86-9673-4A6E-B614-E2AC77E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152-9F45-4B99-85A4-61BBC6FE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7BA-6591-46C1-A06E-C09BDD0E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239-81AA-42AE-B1AB-09B8D394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123-84E6-4C04-8993-E363F036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778-1034-42F0-A11F-A9C7FD3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96C-993E-427A-BA54-1FFBBBA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C11-23A7-4F65-BBA7-75E088E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A09-871E-4D8C-9B6C-B985A0A7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57C-780F-44A4-AB1E-BAD7BB8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9D7-C949-4AB9-9DDB-3EB24406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F9E-7DFE-47B0-B12F-433601C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130-01A3-43EA-A140-57ED6F7D9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bien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30290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36576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a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26Z</dcterms:modified>
  <cp:revision>108</cp:revision>
  <dc:subject/>
  <dc:title>Profile</dc:title>
</cp:coreProperties>
</file>